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jpeg" ContentType="image/jpeg"/>
  <Override PartName="/ppt/media/image11.png" ContentType="image/png"/>
  <Override PartName="/ppt/media/image9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move the slide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B2FED-9D40-40F8-A0DE-150BC55E48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ABA53-6619-4AF0-84F2-5F2ED51D90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F5E57-A94A-47C3-87A8-95C1A25A4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9183A-6D58-4984-A941-900A5C9E6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E25BF-58D5-4E5E-A527-F49056157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858F1-A638-4245-AF3C-3888F75A3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21692-5989-4634-87CD-9D8F44B42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878C8-D494-47C8-B792-3C0DDF08E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1BB1F-C86C-4BDF-A38A-FAD603B68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C01B4-7E2D-4B7D-A220-2300DFEE8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57951-893F-496F-97C8-E4DF5C28A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0F9FF-2688-4EBC-843B-FB5DB0D28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D99AC-8852-4BFC-A260-42B2A8DF8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A3D70-314D-4426-AFF4-80156375A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27947-9FF8-4189-9E0D-B3C86B283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11B61-3143-405A-8EA7-103C6B5E0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EAEDB-AEE1-4FCD-B955-4027C9DA1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3168A-8456-485F-A10F-1992025BA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3C19D-4F2F-485F-96C9-7FA36E825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2E2438-B7A6-4A89-AE33-77E7150A6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D8C607-7680-473C-86BF-E88685349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4D19B2-65C6-4442-8E3E-E12AE5243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1CFFC8-285B-4828-BAD2-17BBFB175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A2C770-09D0-41B8-9A9E-870A56D73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61A4C-AC25-4BCF-97B7-2A8265E85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AAB6FD-746D-41CE-AF57-B22208334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884FB2-8DF9-4690-8D50-2ADBB7184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4F0359-7332-4D61-A094-5F750AEC8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28B684-7E7D-4E84-B64E-D45247F8B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FD377B-FB94-428F-87A1-73BD855E4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554BAF-0B26-4DF5-B482-46D19F2EE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A6AD30-4199-4304-B065-17779580B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A9542E-59F2-459E-83D9-A0B861E29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60B948-2454-444C-90F6-502666E1B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FB0A3B-EE71-41E9-96E9-F6D86C7A7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59A7F-E724-496A-896E-218AF17D3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384DEA-16AA-4067-BF45-FA0F3C740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14DA0D-1262-4549-BA87-2BE812AAA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498357-91E5-4C9E-B49B-BD32430C1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8D85D4-46F9-43A0-8796-95C006C80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902EC8-9971-4141-9F66-E305E3299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BECF29-42AE-4736-BD20-76C3C79D4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4E753B-0C36-4EB7-BCD7-10A24DFD4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2E0510-76C1-4409-94E4-131754EBC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125D41-D525-4DEE-BEAC-0FCDBC2B0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B5405A-59AF-4D4D-8DA0-CB4C85833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99A93-9476-4F88-B07B-62CB50AFA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5D5EA6-C09E-4B82-962D-7A6271376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2A54A0-497A-4777-B790-148189B1C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55EED6-AEF9-43FF-B3E8-1A6F07021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6C5471-4D68-4B46-A911-7A0084097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D8353F-C2A2-406D-B952-F674068D2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3C3D7F-1E7F-4606-86E0-8FEBB3CA9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915EDC-4960-4C60-A02D-114369D35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501FF4-7012-4201-AB88-B1FA8C2B0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801D25-3FF8-49BA-99A5-185D06F7B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CA058C-A2F0-4832-9FF6-9343934FC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0893D-23D5-4F3C-9C76-B5CD57F10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5CAB0E-2A7E-477B-8F70-549C6EA87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D4806A-4A70-4F3A-852B-E640D937E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EBC87A-7914-4DF6-856D-42A33A3A9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B8EF9E-77CD-41FF-A261-B6DE2355C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1C10B4-40F0-4E12-A478-154832CA4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A95AC1-F070-44A4-B0B6-FC3CC7BD0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F67F2A-22E7-4B82-9C5E-2C6BD2EFF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09A4AE-72B8-4BCC-A505-85E661618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0ABC35-2943-49D7-83AD-A1ED23EDC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FECCBF-1AA5-4D96-ACEA-248FA62EC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15949-3483-4990-9E64-B8F41B640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99FF2F-3CE0-4839-A7AF-DBB8A1F8B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15A765-6E2A-447B-A570-1817567B1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4BA619-3A80-49E1-8FEF-AF9BD812C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848A91-6601-4E24-82CA-F3FBD5EB3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7F0CB6-5466-4C9E-9B98-3D41A8919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CA7EA7-B8B2-4B6C-A66F-9205D0675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007751-BBFD-4561-BD9B-4509CE791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43ECB0-980D-4067-B49D-84ADEDB21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A99337-038B-42A3-BA24-6C8F25B37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4D5BE7-F31A-400D-A9A0-B9CFA6B1B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1E6EB-5E4E-47E1-95F0-9E64E0B72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DFC546-CFCE-4BA1-BE5B-A63E67D12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F6E804-18AE-4E4E-849F-0E1637D1E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250429-B1FA-47AA-AF17-966AC6A4E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650684-2D55-4225-9E03-470B19C5C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EB0B93-5AE9-4090-8E38-DF28BC2AD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3396C-B460-4D1D-96E6-1666DD9E6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666666">
                  <a:alpha val="1176"/>
                </a:srgbClr>
              </a:gs>
              <a:gs pos="100000">
                <a:srgbClr val="666666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e8e8e8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eaeaea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D06AA-0858-4EC0-8EEB-FDC77B7D26A0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666666">
                  <a:alpha val="1176"/>
                </a:srgbClr>
              </a:gs>
              <a:gs pos="100000">
                <a:srgbClr val="666666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e8e8e8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eaeaea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Isosceles Triangle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B9BF9-71AE-4634-8C19-8166B065129E}" type="slidenum">
              <a:rPr b="0" lang="en-US" sz="13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666666">
                  <a:alpha val="1176"/>
                </a:srgbClr>
              </a:gs>
              <a:gs pos="100000">
                <a:srgbClr val="666666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e8e8e8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eaeaea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8408B-C923-4CAA-A85F-BE0CCF11F535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ight Triangle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666666">
                  <a:alpha val="1176"/>
                </a:srgbClr>
              </a:gs>
              <a:gs pos="100000">
                <a:srgbClr val="666666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Isosceles Triangle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traight Connector 12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eaeaea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traight Connector 14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e8e8e8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2972F-0D6A-43C5-9264-CFB0475C855F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4D004-415E-43B9-A8FC-BE46111A3E0A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5BD9E-EDF4-43A8-97DF-BC1081A0EEDD}" type="slidenum">
              <a:rPr b="0" lang="en-US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7E6E1-F79A-474C-8590-55267E55CCC7}" type="slidenum">
              <a:rPr b="0" lang="en-US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Title 1" descr=""/>
          <p:cNvPicPr/>
          <p:nvPr/>
        </p:nvPicPr>
        <p:blipFill>
          <a:blip r:embed="rId1"/>
          <a:stretch/>
        </p:blipFill>
        <p:spPr>
          <a:xfrm>
            <a:off x="689040" y="3048120"/>
            <a:ext cx="8058240" cy="676080"/>
          </a:xfrm>
          <a:prstGeom prst="rect">
            <a:avLst/>
          </a:prstGeom>
          <a:ln w="0">
            <a:noFill/>
          </a:ln>
        </p:spPr>
      </p:pic>
      <p:sp>
        <p:nvSpPr>
          <p:cNvPr id="309" name="Title 1"/>
          <p:cNvSpPr/>
          <p:nvPr/>
        </p:nvSpPr>
        <p:spPr>
          <a:xfrm>
            <a:off x="609480" y="380880"/>
            <a:ext cx="806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484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Title 1" descr=""/>
          <p:cNvPicPr/>
          <p:nvPr/>
        </p:nvPicPr>
        <p:blipFill>
          <a:blip r:embed="rId2"/>
          <a:stretch/>
        </p:blipFill>
        <p:spPr>
          <a:xfrm>
            <a:off x="841320" y="3736800"/>
            <a:ext cx="8058240" cy="908280"/>
          </a:xfrm>
          <a:prstGeom prst="rect">
            <a:avLst/>
          </a:prstGeom>
          <a:ln w="0">
            <a:noFill/>
          </a:ln>
        </p:spPr>
      </p:pic>
      <p:grpSp>
        <p:nvGrpSpPr>
          <p:cNvPr id="311" name="Group 10"/>
          <p:cNvGrpSpPr/>
          <p:nvPr/>
        </p:nvGrpSpPr>
        <p:grpSpPr>
          <a:xfrm>
            <a:off x="1066680" y="5029200"/>
            <a:ext cx="4695840" cy="1528920"/>
            <a:chOff x="1066680" y="5029200"/>
            <a:chExt cx="4695840" cy="1528920"/>
          </a:xfrm>
        </p:grpSpPr>
        <p:pic>
          <p:nvPicPr>
            <p:cNvPr id="312" name="Picture 76" descr="GEF_Brand_Long"/>
            <p:cNvPicPr/>
            <p:nvPr/>
          </p:nvPicPr>
          <p:blipFill>
            <a:blip r:embed="rId3"/>
            <a:stretch/>
          </p:blipFill>
          <p:spPr>
            <a:xfrm>
              <a:off x="1066680" y="5105160"/>
              <a:ext cx="2529360" cy="145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3" name="Picture 3" descr=""/>
            <p:cNvPicPr/>
            <p:nvPr/>
          </p:nvPicPr>
          <p:blipFill>
            <a:blip r:embed="rId4"/>
            <a:stretch/>
          </p:blipFill>
          <p:spPr>
            <a:xfrm>
              <a:off x="4618800" y="5029200"/>
              <a:ext cx="1143720" cy="1523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14" name="Picture 4" descr=""/>
          <p:cNvPicPr/>
          <p:nvPr/>
        </p:nvPicPr>
        <p:blipFill>
          <a:blip r:embed="rId5"/>
          <a:stretch/>
        </p:blipFill>
        <p:spPr>
          <a:xfrm>
            <a:off x="3733920" y="5105520"/>
            <a:ext cx="761760" cy="144756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4" descr="UNWTO_e"/>
          <p:cNvPicPr/>
          <p:nvPr/>
        </p:nvPicPr>
        <p:blipFill>
          <a:blip r:embed="rId6"/>
          <a:stretch/>
        </p:blipFill>
        <p:spPr>
          <a:xfrm>
            <a:off x="5943600" y="5029200"/>
            <a:ext cx="2362320" cy="152388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7" descr=""/>
          <p:cNvPicPr/>
          <p:nvPr/>
        </p:nvPicPr>
        <p:blipFill>
          <a:blip r:embed="rId7"/>
          <a:stretch/>
        </p:blipFill>
        <p:spPr>
          <a:xfrm>
            <a:off x="990720" y="228600"/>
            <a:ext cx="7162560" cy="228600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cover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1680" cy="139536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entury Gothic"/>
              </a:rPr>
              <a:t>Fields surveys involving foot traffic count and catchment study to 3 in-demand/potential areas for eco-tourism enterprise establishment.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 advTm="2000">
    <p:cover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 txBox="1"/>
          <p:nvPr/>
        </p:nvSpPr>
        <p:spPr>
          <a:xfrm>
            <a:off x="457200" y="609120"/>
            <a:ext cx="8229600" cy="584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Century Gothic"/>
              </a:rPr>
              <a:t>Results achieved so far.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Awareness in the three villages and 6 schools on the Project and tourism potential in their village has been raised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Positive reception of the project by the community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rmulation of 6 Ecotourism clubs in 6 primary schools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25 handcrafts have bee trained on Product improvement and business skil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Improvement of local food delivery services to tourist and visitors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 advTm="2000">
    <p:cover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457200" y="533520"/>
            <a:ext cx="8229600" cy="592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675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entury Gothic"/>
              </a:rPr>
              <a:t>Improvement in Seaweed farming and fish processing practices (Processes and Business)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675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entury Gothic"/>
              </a:rPr>
              <a:t>Learning of Best practices on cultural tourism enterprise in Arusha (12 people benefited)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675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entury Gothic"/>
              </a:rPr>
              <a:t>26 tour guides are trained on basic environmental education to improve their working skill with environmental concern (Tour guides trainee formulated their club)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675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entury Gothic"/>
              </a:rPr>
              <a:t>Improvement of Public-Private Partnership in tourism industry . Bagamoyo DC&amp;TC,TCMP, tourist companies and Hotels.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675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entury Gothic"/>
              </a:rPr>
              <a:t>Recruitment of Tourism Officer in Bagamoyo. 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 advTm="2000">
    <p:cover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1680" cy="1395360"/>
          </a:xfrm>
          <a:prstGeom prst="rect">
            <a:avLst/>
          </a:prstGeom>
          <a:ln w="0">
            <a:noFill/>
          </a:ln>
        </p:spPr>
      </p:pic>
      <p:sp>
        <p:nvSpPr>
          <p:cNvPr id="331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16160" indent="-355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entury Gothic"/>
              </a:rPr>
              <a:t>Promotion of tourist attractions through Participation in a local tourism event (Karibu Travel tourism Fair-Arusha);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416160" indent="-355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Century Gothic"/>
              </a:rPr>
              <a:t>Aproximatelly15 acres of mangroves were replanted within project area.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416160" indent="-355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entury Gothic"/>
              </a:rPr>
              <a:t>Establishment of 2 cultural tourism enterprise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416160" indent="-355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entury Gothic"/>
              </a:rPr>
              <a:t>21 people have been trained on Management of  business skills on tourism activities.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416160" indent="-355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 advTm="2000">
    <p:cover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457200" y="533520"/>
            <a:ext cx="8229600" cy="592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Century Gothic"/>
              </a:rPr>
              <a:t>Challenges encountered during implementation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Large interested community to be trained with limited funds to support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entury Gothic"/>
              </a:rPr>
              <a:t>Most of the challenges are internal which we are supposed to deal with ourselves (Bureaucratic procedures to handle request, transport facilities;  etc)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 advTm="2000">
    <p:cover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457200" y="685440"/>
            <a:ext cx="8229600" cy="57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entury Gothic"/>
              </a:rPr>
              <a:t>Recommendations for further activities to help increase socio-economic benefits from tourism in coastal destinations in the country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 algn="just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Extension of the project time frame will  bring more positive impacts to the community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 algn="just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Up scaling of the project to other villages for widespread positive impact to the community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 algn="just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More training is needed to unveil the tourism potentials in the area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 algn="just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 advTm="2000">
    <p:cover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Title 1" descr=""/>
          <p:cNvPicPr/>
          <p:nvPr/>
        </p:nvPicPr>
        <p:blipFill>
          <a:blip r:embed="rId1"/>
          <a:stretch/>
        </p:blipFill>
        <p:spPr>
          <a:xfrm>
            <a:off x="195120" y="122400"/>
            <a:ext cx="8491680" cy="1809720"/>
          </a:xfrm>
          <a:prstGeom prst="rect">
            <a:avLst/>
          </a:prstGeom>
          <a:ln w="0">
            <a:noFill/>
          </a:ln>
        </p:spPr>
      </p:pic>
      <p:sp>
        <p:nvSpPr>
          <p:cNvPr id="335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entury Gothic"/>
              </a:rPr>
              <a:t>Other stakeholders are needed to complement on capacitating people with resources (Loans, grants) to run small tourism business.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entury Gothic"/>
              </a:rPr>
              <a:t>More funds to facilitate the established cultural tourism enterprise.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entury Gothic"/>
              </a:rPr>
              <a:t>Identification of new tourist products.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 advTm="2000">
    <p:cover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Title 1" descr=""/>
          <p:cNvPicPr/>
          <p:nvPr/>
        </p:nvPicPr>
        <p:blipFill>
          <a:blip r:embed="rId1"/>
          <a:stretch/>
        </p:blipFill>
        <p:spPr>
          <a:xfrm>
            <a:off x="384120" y="689040"/>
            <a:ext cx="8229600" cy="1920960"/>
          </a:xfrm>
          <a:prstGeom prst="rect">
            <a:avLst/>
          </a:prstGeom>
          <a:ln w="0">
            <a:noFill/>
          </a:ln>
        </p:spPr>
      </p:pic>
      <p:grpSp>
        <p:nvGrpSpPr>
          <p:cNvPr id="337" name="Group 10"/>
          <p:cNvGrpSpPr/>
          <p:nvPr/>
        </p:nvGrpSpPr>
        <p:grpSpPr>
          <a:xfrm>
            <a:off x="1066680" y="5029200"/>
            <a:ext cx="4695840" cy="1528920"/>
            <a:chOff x="1066680" y="5029200"/>
            <a:chExt cx="4695840" cy="1528920"/>
          </a:xfrm>
        </p:grpSpPr>
        <p:pic>
          <p:nvPicPr>
            <p:cNvPr id="338" name="Picture 76" descr="GEF_Brand_Long"/>
            <p:cNvPicPr/>
            <p:nvPr/>
          </p:nvPicPr>
          <p:blipFill>
            <a:blip r:embed="rId2"/>
            <a:stretch/>
          </p:blipFill>
          <p:spPr>
            <a:xfrm>
              <a:off x="1066680" y="5105160"/>
              <a:ext cx="2529360" cy="145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9" name="Picture 3" descr=""/>
            <p:cNvPicPr/>
            <p:nvPr/>
          </p:nvPicPr>
          <p:blipFill>
            <a:blip r:embed="rId3"/>
            <a:stretch/>
          </p:blipFill>
          <p:spPr>
            <a:xfrm>
              <a:off x="4618800" y="5029200"/>
              <a:ext cx="1143720" cy="1523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40" name="Picture 4" descr=""/>
          <p:cNvPicPr/>
          <p:nvPr/>
        </p:nvPicPr>
        <p:blipFill>
          <a:blip r:embed="rId4"/>
          <a:stretch/>
        </p:blipFill>
        <p:spPr>
          <a:xfrm>
            <a:off x="3733920" y="5105520"/>
            <a:ext cx="761760" cy="144756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4" descr="UNWTO_e"/>
          <p:cNvPicPr/>
          <p:nvPr/>
        </p:nvPicPr>
        <p:blipFill>
          <a:blip r:embed="rId5"/>
          <a:stretch/>
        </p:blipFill>
        <p:spPr>
          <a:xfrm>
            <a:off x="5943600" y="5029200"/>
            <a:ext cx="2362320" cy="152388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cover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5698"/>
                </a:solidFill>
                <a:latin typeface="Century Gothic"/>
              </a:rPr>
              <a:t>BACKGROUND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 algn="just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Century Gothic"/>
              </a:rPr>
              <a:t>The name of the project is SUSTAINABLE ECOTOURISM ENHANCEMENT FOR POVERTY ALLEVIATION AND BIODIVERSITY CONSERVATION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 algn="just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000" spc="-1" strike="noStrike">
                <a:solidFill>
                  <a:srgbClr val="000000"/>
                </a:solidFill>
                <a:latin typeface="Century Gothic"/>
              </a:rPr>
              <a:t>The project is implemented in Bagamoyo Demosite at </a:t>
            </a:r>
            <a:r>
              <a:rPr b="1" lang="en-ZA" sz="3000" spc="-1" strike="noStrike">
                <a:solidFill>
                  <a:srgbClr val="000000"/>
                </a:solidFill>
                <a:latin typeface="Century Gothic"/>
              </a:rPr>
              <a:t>Dunda, Kaole and Mlingotini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 algn="just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 advTm="2000">
    <p:cover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 txBox="1"/>
          <p:nvPr/>
        </p:nvSpPr>
        <p:spPr>
          <a:xfrm>
            <a:off x="457200" y="457200"/>
            <a:ext cx="8229600" cy="599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entury Gothic"/>
              </a:rPr>
              <a:t>Total Budget from COAST </a:t>
            </a:r>
            <a:r>
              <a:rPr b="1" lang="en-GB" sz="3000" spc="-1" strike="noStrike">
                <a:solidFill>
                  <a:srgbClr val="000000"/>
                </a:solidFill>
                <a:latin typeface="Century Gothic"/>
              </a:rPr>
              <a:t>:USD 50,000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entury Gothic"/>
              </a:rPr>
              <a:t>The Project is Implemented by </a:t>
            </a:r>
            <a:r>
              <a:rPr b="1" lang="en-GB" sz="3000" spc="-1" strike="noStrike">
                <a:solidFill>
                  <a:srgbClr val="000000"/>
                </a:solidFill>
                <a:latin typeface="Century Gothic"/>
              </a:rPr>
              <a:t>Bagamoyo District Counci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5698"/>
                </a:solidFill>
                <a:latin typeface="Century Gothic"/>
              </a:rPr>
              <a:t>PROJECT OBJECTIVE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entury Gothic"/>
              </a:rPr>
              <a:t>Capacity building for local communities in sustainable marine &amp; coastal resource management for income Generation and improvement of livelihoods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 advTm="2000">
    <p:cover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380880" y="304560"/>
            <a:ext cx="82296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5698"/>
                </a:solidFill>
                <a:latin typeface="Century Gothic"/>
              </a:rPr>
              <a:t>PROJECT ACTIVITIES IN BRIEF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Awareness campaigns in the project area (Kaole, Dunda, Mlingotini) involving members of the community  and other ecotourism stakeholders 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Tailor made trainings/skills development for tourism stakeholder groups (tour guides, handicraft producers, boat operators, food vendors /homestay providers, local performance entertainment groups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 advTm="2000">
    <p:cover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457200" y="380880"/>
            <a:ext cx="8229600" cy="607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Setting up of tourist information office,  promotional material development (brochures/flyers/website)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Promotion and marketing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Support to environmental protection / conservation initiatives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Facilitation of establishment of tourism stakeholder dialogue forum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5698"/>
                </a:solidFill>
                <a:latin typeface="Century Gothic"/>
              </a:rPr>
              <a:t> </a:t>
            </a:r>
            <a:r>
              <a:rPr b="1" lang="en-GB" sz="2800" spc="-1" strike="noStrike">
                <a:solidFill>
                  <a:srgbClr val="ff5698"/>
                </a:solidFill>
                <a:latin typeface="Century Gothic"/>
              </a:rPr>
              <a:t>PROJECT EXPECTED OUTPU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Increased community awareness on the potential of tourism and biodiversity conservation;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 advTm="2000">
    <p:cover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 txBox="1"/>
          <p:nvPr/>
        </p:nvSpPr>
        <p:spPr>
          <a:xfrm>
            <a:off x="380880" y="45684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Increased income generation from activities and enhanced local entrepreneurship;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Improved service delivery;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Increased tourist arrivals;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Improved beach and marine environment;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Increased tourism stakeholders</a:t>
            </a:r>
            <a:r>
              <a:rPr b="0" lang="ja-JP" sz="2800" spc="-1" strike="noStrike">
                <a:solidFill>
                  <a:srgbClr val="000000"/>
                </a:solidFill>
                <a:latin typeface="Century Gothic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 collaboration (between District authority, local communities, private sector and NGOs)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 advTm="2000">
    <p:cover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457200" y="609120"/>
            <a:ext cx="822960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5698"/>
                </a:solidFill>
                <a:latin typeface="Century Gothic"/>
              </a:rPr>
              <a:t>PROJECT CURRENT STATUS AND OUTPUTS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Education and awareness workshops at the project area (Dunda, Kaole and Mlingotini)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Education and awareness campaigns at schools in the project area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Training for handcraft groups in quality improvemen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Training in improvement in accommodation, hospitality, food safety, food provision services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 advTm="2000">
    <p:cover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457200" y="609120"/>
            <a:ext cx="8229600" cy="584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Workshop in marine products improvements &amp; hygiene, fishing/seaweed farming groups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Tourism enterprise coordinators’ cross learning visit to CTP enterprise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Training in guiding, basic environmental education and interpretive skills for 12 guides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Make and place sign boards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Assessment of areas for mangroves replanting with community members, community resource mapping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entury Gothic"/>
              </a:rPr>
              <a:t>Mobilization of people and planting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 advTm="2000">
    <p:cover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Title 1" descr=""/>
          <p:cNvPicPr/>
          <p:nvPr/>
        </p:nvPicPr>
        <p:blipFill>
          <a:blip r:embed="rId1"/>
          <a:stretch/>
        </p:blipFill>
        <p:spPr>
          <a:xfrm>
            <a:off x="195120" y="231840"/>
            <a:ext cx="8491680" cy="139536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Century Gothic"/>
              </a:rPr>
              <a:t>Participation in a local tourism event (Karibu Travel tourism Fair-Arusha)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entury Gothic"/>
              </a:rPr>
              <a:t>Management business skills training for tourism enterprise coordinators, cultural tour coordinators, food/home-stay providers, curio sellers, fishermen groups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entury Gothic"/>
              </a:rPr>
              <a:t>Development of brochures for promoting tourism in Bagamoyo. 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 advTm="2000">
    <p:cover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7T04:07:45Z</dcterms:created>
  <dc:creator>user</dc:creator>
  <dc:description/>
  <dc:language>en-US</dc:language>
  <cp:lastModifiedBy>UNWTO</cp:lastModifiedBy>
  <dcterms:modified xsi:type="dcterms:W3CDTF">2013-09-25T06:07:40Z</dcterms:modified>
  <cp:revision>92</cp:revision>
  <dc:subject/>
  <dc:title>Slide 1</dc:title>
</cp:coreProperties>
</file>